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15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13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4.jpeg" ContentType="image/jpeg"/>
  <Override PartName="/ppt/media/image8.png" ContentType="image/png"/>
  <Override PartName="/ppt/media/start.wav" ContentType="audio/x-wav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4971-0121-4A85-BD85-F1AE99136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0FF3-8F01-4C7F-B71E-D3DEBCB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1CFCD8-88D6-4F7A-988C-0ADEEAFF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9294B-959D-4102-B617-A334749D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F14685-1717-402F-999C-787FEE0B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1569DF-CBE6-4B45-9118-7C8FB19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C29B7-4154-417F-9ED0-C676861E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F6EDF1-2CDC-4197-8763-35AD8D9B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7ED452-512F-490C-8DA5-EC511DA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111C76-6733-4061-82E6-D160B92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E1214-1D5B-4490-BF9C-E44DBD9CA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1290-B9C9-4E6B-B41D-47BD8478D8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341A-0179-4C8E-BADA-BD06305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1286-127D-4065-A51E-7C7265DD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579BE-CA49-4F90-B328-D8B3FDF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E28FE-B315-4196-864C-A56232B4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2916A-09C8-422C-BA73-2F789F65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CEBFA-8337-44FF-B236-5C430A1B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3B08-886C-4589-A404-C5A6121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4C6B-023F-4B55-B02B-B7E7693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DBDC8-B72E-4A9D-B513-AEDE81E0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4D1F-4229-4F16-A38D-4FB01B4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15C11-9517-4050-841B-FCD4883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7EA2-5F5D-44B0-8F20-ADC3B93A4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B502D-2AE2-4617-9FA2-5652F3778C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F2685F-03BB-48BA-B909-D0F58FD04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F6DB4-BF0A-4492-9578-4D983B5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CD3C2-268A-481E-A94A-F5802677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7C170-D552-4255-8430-0B47171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0DC08-E2FD-4268-BFD7-E818CA5C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033701-D6BD-4AA2-83ED-FFA3FDFD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139E3-673C-4C23-8913-0AD04A8E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16256-BDE7-43E5-8515-2B84A4EE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803BB9-C5E3-4F25-871F-C80A4A88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889DC-7BAF-447A-893F-12FEDBD87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724580-2FFB-4FCB-BB5A-0B499FB5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49ABB-A461-4666-A1D2-E84EEEA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D553B5-424B-48BB-AA46-B2A3CA392A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D97BD-ED11-4E2F-96C2-C20010813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86320-3950-4FD7-BC8F-4321D276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99617-5549-45F6-9554-10F39A4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1E1F3-BB61-4FEB-BC3F-3B3460C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FE0BF-406E-47DE-8B9F-61E1BF07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BC568-AD2D-4797-8580-F8C3D861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3CDFE-8D01-49E7-98E7-593F4782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28FE8-E0E5-492F-97DC-B5E7C689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17F51-8FF3-481D-8C65-397EF88C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03DDF-290C-40CB-A524-C701400F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77728-6B2A-439A-83E9-5A046A8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A9EAA-6603-4D00-A24B-FEB3270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725C9-6EA3-45FC-970B-89D30B4EA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2AB6D-3240-4D38-A7C0-FE9DA19B9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EE3D9-750E-4A65-99B9-DB852B3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E796E-1BE0-4D63-8EF4-C681A97F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D1929-17FA-4712-8114-4FF64A91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83425-A49F-4AB3-8D82-4FEA9C94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5C108-E1A7-488A-BB52-6D18126B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667BF-554D-4AF1-A1A6-E8717B47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CB041-A432-47ED-816B-6DAC0FF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CEEB9-D2D9-46F4-9579-298B72BF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D20DD-48E0-4D74-9878-B749B584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93C94-B2E9-4E6D-9E52-A7A8897A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901FB-39AD-41C9-A699-4E5A2D1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AB1F2-7BA1-4C40-8685-FAB1C64CB7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52E63B-0D0F-45D9-87F7-370C46CF6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C3CE59-EC3A-410D-AF9A-2C7A731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8E1780-7B45-4175-A11A-2056167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1711C-AD61-480A-A6AD-6EEEFF3C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36647D-43BC-449A-9652-17F891C9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381924-6A24-47EE-94A2-1856874F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FF653F-7B67-42DA-A694-EA81400D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8F57CB-9C0E-4290-8B37-BA7AD26B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C679E2-C258-4932-8349-8B9F4E69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BE4089-C07C-48F5-A3BF-D072E4BE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FD3E9-B793-4ED6-9F0E-312C93D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51E5C-3C3B-4443-9CCB-D3C8998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D6EE2-9104-4659-B603-45292D623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1EDC89-8D20-4047-8724-3D3E919B01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36B7C-238D-41CF-A12A-4FC1E17B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6AC405-4FC0-4181-8F00-A064FBBC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BA1D5E-1EBF-4EFB-B850-0B45D81A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8A7589-617D-435D-B659-2C441725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0DA93A-F73D-4346-AC74-EDFC71E8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9D5ED3-D290-47D8-88C7-B3160C43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3EA5C-0FFA-41F9-91FF-C9341976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E1A418-C2DA-4EE9-B88F-FFD72C46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52B1CB-3A77-46F2-8DB6-7842024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B80518-BD78-43FC-81AA-46F3865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D5A449-9CCC-4300-8AF6-9A8C7D1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8298-25F6-4821-8CA5-DC4D4050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F19D76-FFC7-43EC-A897-27F7D363D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5B8C5-5DBE-49A6-A13E-DB91EB3A0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0B2DB-117D-48AA-9375-EBF3AC6B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C8E8-E380-44AD-AB07-ED2E7D3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E9FFA-1137-4607-8F81-C81EC23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7923-3C3C-4CCA-BDFB-EB56DB74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D979E-115D-4465-9250-F2A787B8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EABE0-31D9-414E-891C-E504B5D8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7A110-57D3-4313-9ABB-603BC32B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E69A-3B17-4174-80E6-53ED68D0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29A6E-AF63-4E12-B368-5EBAD3D6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10A9C-276A-47C7-B63B-E79E1026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507E3-44EE-4D39-AA4A-FD91779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AE381-437A-4F6E-A480-B666D39D14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853C3D-5686-4690-B829-4AD3ADADAB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AF218F-9EC7-4126-B0D3-C19A689D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1CEF4E-FC4B-442F-A41D-461F923C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198930-E42C-43F4-A52E-FEFF987C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380911-FEE9-4938-9EFE-45B7B77E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D5EB88-7DEF-4403-BADC-9C03EC6B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B1A6DA-AF60-4D0A-817E-6151383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DC49-DBFC-4406-A6D4-A851555F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50894-721F-40F1-8964-5C99C6EB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5579DE-1F8E-455C-977B-601B1FA4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8EB697-D185-4CAE-BF3F-A58C75F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A8ECF8-DDD2-492F-9C74-B40A2DAE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F971F8-F1E9-4518-864C-5EC4A83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EB9BB3-496C-44D7-B557-FEAD2B24E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DC9B7C-54D9-4139-8CC2-60BFB691D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8C27BC-CE65-4302-BC5C-66CADBC2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34DE25-9361-4464-BCE7-EA6306AF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78533C-29F6-4817-B606-8467B20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90CAD3-5D7F-4572-970B-827EEC7B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CBF8A-78F1-4E80-B3EF-47864F5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8D1410-4104-4A2C-9CBD-6232DD5F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B9CAE6-9E5C-4D31-BD98-F3DD57E3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AB719D-EC3E-4207-9C12-ED350630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3C3BE6-60E0-41B2-A0F1-89574BA3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8A17ED-5A31-487B-93FE-C714317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AFF4F1-19E3-4248-B4A6-63661BF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38A669-1384-40D9-8159-1253EED063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9F3E7-EAAE-4D20-8272-FDF92787D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9AEB8-2D88-4819-8F57-6A57A3F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8614F-1754-4C99-A6AD-43D76DB5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E6450-5842-4522-BF2B-E342F246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1AB79-2A36-42C4-AFD4-4CBEAD2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9B227-F719-4726-80B1-2D1AD9D4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84BB1-F1AA-422F-A8A1-37C76D6D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770C2-434D-451E-9DA7-B694FE45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F88AC-92F3-4892-8BB2-A5862471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E90ED-3D65-44C3-A1D5-40D037ED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3F687-FDE1-4C80-8F62-FF08033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FA193-5623-463F-A4D8-D175B3D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899AE-845B-49CD-8D89-820985837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00D75B-43DB-4EF0-AE67-4957AC1F3E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BDDB8-FB6D-4C95-BAE8-46553324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E892AD-3A56-48EA-BB82-9BC6E40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4F7D39-14B4-493E-9321-36EEEAE6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CB1C48-BC20-4BB2-9CB9-1088B32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579366-3A83-45BD-B10D-76503C7E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DE3741-A9F8-410F-9E88-B473A75B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C95EF7-B586-4148-8AAB-D0079CE6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2586BE-9869-45F4-85C8-FB723E17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D0201F-012C-4900-9F0D-A1DE4512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7FAB6B-0298-4BDB-A910-BE4B511B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8A0259-2ADC-4899-957D-E824E25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6533C-EE67-43D5-96A1-F2FF20867B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AA8F87-AB83-4527-8F6D-CA0E65A0CE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D3F0C9-8F27-49DD-84C3-A165BDE18B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E5C7AC-4599-417E-92E1-016071A0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F55C32-C65D-4689-A70D-A76F5E3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23D3A5-93F1-4B5A-9E96-0A3E7F81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2549CB-29D7-4026-9A95-4F77F7D7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FBC1EB-1FE1-42E0-9862-0387C625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1AF498-4490-4BE3-B208-7FEDBFF4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CFCEDD-C76C-4466-AB99-28752A3F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3A2A31-2A56-4A7E-9A02-A7B7796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A8EDD-51CC-4678-8885-F3F537A3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A975A1-E0E3-44F0-8ECC-D3DE3040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5394D3-0C27-4A34-89E2-5058AF20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512283-4715-4466-9E96-ED8A43D20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494F3-8C5A-4B43-8D84-659A6E8E38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544F8-F107-402E-BB1D-73293C83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2E774-2121-43E1-92D3-1277424E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BFA71-34F7-4DD3-A70E-4EB31257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82EB3-FAA4-4347-9BE4-F39ED823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E970E-1E2C-42C7-9689-06D5487C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35CFC-E656-453F-8DD1-F344CDBB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9443D-D4FA-49D2-B1B3-F2C620D7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A56B9-FC1D-4961-93DD-4AAEB90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2726F-603F-4A8C-94EE-4398F6AD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F6B24-5376-41E3-8749-94C86826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5FF03-CED8-45ED-AF1D-89F897F6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67C29-F1FD-49D2-8A1E-7F906B5AA6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5B114F-2546-40E0-9DCD-642708935C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3246D1-7F45-440E-8CC3-8A7F83A2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27B136-E2B0-48AE-9CEE-01D2F944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B6CF20-3B08-44DD-BE6F-649FC756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98E9D0-B8FB-4E11-828F-16FD8A3E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D7A82-B1DC-413F-912C-C984B008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1BDA6D-A59B-4917-AACC-723AEF85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B2FACF-8586-4559-A4F0-1DA2BAE0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056F47-A0B4-49CF-882E-3A20A2F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A27B29-C19B-45F8-A19B-70C0BAAD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24CF73-16FF-418B-8CF9-D5F3B02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BCFB36-2DD2-4E83-9C34-7B40D10B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D28020-4CA2-487C-A3DD-75104F352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B6C285-FBA6-4F76-A1CE-D3024EEFC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669D96-AE6E-44F1-8620-769F90EB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DA7B828-E03E-42E2-B5CE-83BB6B83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0B2AA-ABCC-4BEB-91E0-F9315CB1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CBA847-8BB9-4D50-98B4-49597A9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5F60D7-3058-493D-9048-1686F085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8530FE-51D2-46C4-BB15-8CFF589E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C2B017-0379-4A67-A577-9992F0B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9BBC81-32A1-4B90-99F5-6569DCA9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A14217-73E2-496A-9915-E26E5B67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1C7D0B-6148-42EA-888C-CE654F70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ABB122-9A92-4EFC-AB74-ED296722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FA4325-3A61-435A-818A-F1F475329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192A4-016E-4F98-ADE2-166775DEF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CED4F-1BF9-446C-88B9-01E3A5E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C6998-FC4D-448F-9847-60875B73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AEFA9-0A54-4753-949E-A17A2804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7CAD4-7347-417B-B4EF-816ED481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82944-6288-490C-8AC9-034A54C4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FB08B-B031-4AA1-9971-04F1F90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CC466-1227-47AE-9672-3F31A489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8F58D-88CB-4858-BE43-8C80B6E4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F8990-C497-4681-BDE5-8BF4C7C6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144EE-F2A2-40DB-A4A2-DF6D80A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95C68-FA47-4676-A4AB-E77C215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36AB-A678-445A-8947-EEAD4AE9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7D0E8-BDD2-4008-9DE9-EF97340F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6B84D-B259-46D5-B5EE-456843F889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10AD1-6E67-41FD-AE31-24AC5149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292B7-B19C-4DEE-A581-9A889DED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FF7FE-71C0-4CF3-9E46-6F06D7DE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286C36-05AE-478B-99E7-B7FD8F6A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FF7D4-F39F-46F5-BAE6-4E067CB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EBD38-2CE3-43C1-9D67-4F171BB0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77FE6-1F70-4F43-A9E1-05696689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BC097-E98E-4873-A89C-C9F6BD1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C95DD-A89A-4EF7-B8CF-5A1AA07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91CE6-B0BE-49D7-B4DB-5F30CB34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E92B6-C1A2-4B57-AD0D-8CBD7F8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E920B-4BF9-4AFF-AA7B-6859CA12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41178-2C88-4BFB-B643-4B2DB03B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8D72F-6BB4-4B75-B2A5-58E80003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9EDE5-E9A3-489F-AA72-5E7A53E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5B6BC-A32F-4C93-BCEF-ED30D634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DA1B6-D0CE-416A-A38E-F573D921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8472B-641D-4E7E-9E15-23808DB9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05CD2-1950-4BEA-9594-18469D4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F50EC-BCA7-42F5-9DA0-C6E5DA9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5E891-B6D8-4F94-A7CB-2DE79ADB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84358-7C89-4059-BE73-5756E2F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F7C83-F6E8-4EF9-8293-1AE8010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3EEFA9-96A3-415F-B11A-464F8CC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93E3F-43AE-4B66-BD8A-475FA25E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DD900-3332-4F9B-A92C-2AE6B2CF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798F0-DFB0-4437-9578-DCF8802B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6AEE0-EBB3-4667-9D9A-A36FDE8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06627-611F-4BFB-87AF-E03839FB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653F5-A2D9-4E70-BBAE-FBEB7148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081A25-FAF6-41C4-B90E-E06AE4CF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50BA0-934A-4C34-93AC-C713850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4ED15-A1A9-4D85-9E22-8321DE7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C9766-E26D-4FB6-9F98-8891D632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6F67B1-8A5D-4DC7-B767-B903200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892A9-BF22-4008-B3E9-F61C029D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D12A0-C55D-4436-AE9D-FCF15015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07C9D-9AD6-4368-9849-E4C19E05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677BDE-0333-4A6F-9BF1-E768AA5C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21A88-4612-4D37-868A-C17AE84E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CB84E-6247-467E-929E-BA8C21E3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6FE9B-004B-49A1-9AAA-20ABDC0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D591C4-2F2F-47B4-AF68-075C550C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BA233-594E-4324-86E1-075A2196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D22E73-478E-48A1-8A82-31BD008C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9946C-3080-4775-A889-ACFECCBA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B0F92-3D1E-4C36-B2C6-D3328F1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63B69-2295-4572-A094-622BC48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EEEEBA-BA5E-4B07-9C64-41C89AAE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D0A11-841A-4016-A708-77D9B12D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16300-DA20-4F7A-8AB0-58CCC96B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A26F59-5254-4E2D-A406-20FA854C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DCD4B9-7EB0-4D21-B592-C90FD260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DC003-F166-4A39-9C65-0AFE9722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4269A-225A-4710-9EB6-BD92174F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9486D6-BBF8-423B-AA81-8BB1662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61D801-5CAF-4697-8E98-837D4BF8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DED351-075E-4281-840D-8454DB6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12153D-F93D-4799-91CA-D299BF81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CE33F-7357-4660-8B44-C5F0D7E3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56028F-6A55-47CB-A8BB-F6E23E84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AC8CF0-F57D-4E08-8FF3-1A1E4BF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70EBC-82A8-4718-8854-2D22AC4D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F9B122-FBA9-43DE-AD29-493A2190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59BA1-41A5-482E-B484-D7E36D1A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D4589-F412-4C3A-8709-5CFAACA1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D02949-6527-4AD1-A309-353465E4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012F68-9D9D-4364-A56E-A55B6E2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CE862-559C-4B7B-8202-FF509564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5A89F5-25C1-4E20-B288-7967DE3B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42292-87C9-4FDC-A3F8-4DD9A640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578DC-721E-4AB1-B1A5-78F53AF2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9416DE-2B75-4529-A512-57694B6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DC7DE1-F6C4-431B-BE80-92392BE4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B57D3-2B87-46D4-8FFC-8DA399F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118C-F8CF-442D-8B87-73C8A2281E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1F1F2-A110-4153-9DCF-C76C1DED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BC6DC0-0C86-4DC5-A53E-20FB8D1B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58BEE-350E-4122-ACED-F82DBA87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3E1180-C3ED-4BFB-9364-48733AC1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AF0566-6DBA-428B-B9A0-10A418FF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83011E-375A-4FE4-B769-1B3F927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F78C67-9252-474F-8840-E753AD2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A4AE7A-B6A0-4439-89D0-A61C5C3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9D2CA-9445-4DC8-B758-63B2485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E10B76-D78D-47BB-96CA-B5A347D4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5DFB-5812-4F25-9250-E71C25F3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CED995-4B8C-4A91-A59B-233F830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ACDA7-B1BB-42A1-87FC-7B7DA71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BDF9D-57E0-4F20-95C0-C7E97167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3BD6DE-D082-4DBB-BA93-6D8F84AD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960804-3CD4-460E-BDB6-7D4100AC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69C3F2-2486-4C69-8585-6CCA1AAF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1A5ED0-8498-4D01-AF57-31359B26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323F16-A279-4AE9-8A3D-0F5C30D0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48772A-C3CD-4746-8AA1-AA3567F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986188-5F09-4096-8FCC-1388882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E1E8-4776-4424-A76D-F992E1EC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D4E9AF-C081-48DD-AA39-B1990990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D4BDEE-518B-4774-BA50-1D18EA7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F10CB8-627E-4093-BD4B-5DF0B84B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F349E2-BF05-4A1D-86C3-81C262E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18BA9D-4DC2-42DD-B4E6-5A2675A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E5DAAE-72FA-4572-A5B8-8D422887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1489FF-72F8-490E-BAC5-6F923F51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A7584D-AF55-40F8-BC31-B6597562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263F3D-F890-465E-9C4E-0648B6D2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C5E89C-DBD1-42EB-AB1E-CB75AD1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24A9-EA8B-43F8-A30D-A072FC7D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8DA0-A708-49D5-9081-2742933A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A1A131-7D5F-4552-8F4A-1D1BA049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C7D11-3CFF-4D71-B302-2B37CA7E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862519-AD91-420B-8312-A2289E6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B50301-F0FD-4D7F-9D8E-97D9B2B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C3F545-42B3-491D-A68F-2740F829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6D4D3A-A65E-4E89-9270-FA58B9C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629DF9-870B-46CA-944A-5178FE63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145D0-654B-463E-A098-616B29E1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77BEA7-A029-49C1-97A2-64F1A00F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DD0E56-9273-4286-B2BF-9751CB3F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E70B-A4E8-419E-8507-144D49E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689E90-D792-4C2B-A782-58CAA6C9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48B11F-DFC5-406F-8326-6FB7DA8E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515DEC-BEB5-4916-BBA1-7CAA4D93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42AF54-EE31-44C8-83EE-C1577910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A597D6-C456-4E25-BE63-F07CBD4C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FE0009-A0D0-4548-848D-FEE7277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BDE1E2-198E-408E-A73A-775247D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E5D089-F17D-4DE8-B734-C1DD3084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4A6598-B819-4A33-8C00-6B092080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FB6CCB-2B72-42D0-AEED-77160AED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AC9C-77EF-457A-BE52-E566F458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596411-6741-4C98-80ED-C42D1C91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3D6F73-8890-4CA0-8CC1-6BCAA196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46F4A8-CADD-46D7-9F43-F7FB6937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30E741-8A21-4306-86A2-40B2270C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60D9D8-1408-4847-8EB2-0A23E64E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E929D8-8BB8-4978-9F42-51AA2E63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4560BC-782F-4650-9E27-6C53F5D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EFB76-4E37-40D5-8CAA-74A9885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B32995-6C9F-401F-A336-4A9C204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868AD3-CF30-428F-9E4C-AC617E6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AFE3-92A5-48CF-92CB-58ABD5E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2A986-2430-4219-8A04-50A5E57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65C78-63E0-436A-975F-20FC1CBF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21F81F-7D18-4E4D-8E55-1E99AED0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95AB-9163-435B-AE5E-29A40976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00F7-1C40-4F88-8C70-754A9F85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1AFA-0C9E-408B-805C-B0B0EBDA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23714-1B15-471E-9B2C-1002807C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DDE2-C6D6-4AC6-BA5C-6E55338C4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F83D6-9200-40A3-84D8-D40883C65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6824-1825-436B-B62C-6FB2D7B2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5F7F3-5292-471A-ACAB-67FA710E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6B3AD-F796-4FA0-AD08-E3FE12A2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1C074-DB2F-4BFE-B40E-CF57001D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1DCFD-E237-45F9-91D9-8F250D82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A3C5D-3639-4085-A916-F837C3D9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EC8D7-3242-4655-A59C-CBBBF2FB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7D3B1-1AC3-4B6B-8F21-7EE9C8FD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0B802-604D-4931-ACE9-AC458C8F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32030-22EC-46E8-9944-D1188E6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7514F-4569-4A89-8D8B-112E6BA9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70DE-4BC3-4014-9130-CF9F00A6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D274C-0BBA-42AC-9417-6B7F01181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3DBB3-E9AB-4BCA-BC12-A48B2B122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E19BE-81F3-4E07-B7A2-B124FA53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5FCEF3-B2CA-4CF0-BEBB-23D9DACD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0C7A58-B856-40B2-A69B-8E3B48DC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CACC6A-DA45-485F-9D42-AD8325AA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C84942-D1CC-4530-9F14-2BDEE97A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175D56-8277-44BC-8FFF-1A60848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174BA-356E-4097-83D8-1EABBB6D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6576B-BE38-4147-8485-29DB4A34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1AB2-F350-4EC8-AF03-6D1ACC50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50AC3-BA73-48EC-8BB5-E1563F7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96A691-CAAA-4C51-AD8D-1E95D53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41414-A3F6-4D69-AFFC-56FB36263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717B-3940-4ABB-B6C5-4B9909502F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773D7-0EC0-4EB3-B6F9-A1FD4D42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5241-2D9D-49F8-8524-72F4106A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02C45-5373-4830-89E3-501BF861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F93C-7457-4F89-A8C3-934B1E88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E7050-0D16-412B-A4C1-50EB423C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498B8-DC2A-4459-B693-BAB9D944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1262-8CAB-4E01-A9C4-F5850A86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481C-3F3E-47D2-930B-F3C24DA8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9CA6-72D8-4229-81D6-24A8E17F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4F693-E97B-4461-A4F2-8805F7D1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6081-E38E-4D1F-A5BB-FAD9169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3A8B3-A08D-48E9-A468-48EB27AEF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F44E4-65FF-420C-B867-267FC8BF8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1EEA4-5B41-4EBB-9BB2-6C432ACE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D9628-5937-44B0-AEF3-B8246464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DA84B-D720-4913-9192-0B787BCF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8AA88-2F19-4DF6-BB8F-76F7C040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E525-4095-4B75-BAA1-FD6F3012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159B3-D4D9-4A2C-B4AB-FBDBD476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5BB3B-2AED-4B60-B239-5D8F1FD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587FA-571A-4E3F-AD2F-E5CB2B8A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A58C1-14ED-46E6-9A91-FE1157A4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0FA71-1A3B-4A3C-8457-10B53761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DCA4C-97A1-47E8-9937-7995D4B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C65BB-B7C5-425C-8A7F-57D2B63F2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E6613-3321-4CAC-BCBC-83170AC3F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CEEF4-E0C6-49BC-A580-965D8BC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EAC43A-E73A-4292-A29C-2C58797B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C83D-28F6-493D-9236-97BC99BE379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2158-8298-4399-BE8F-62C2F4A15F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12D-05B5-49D7-8E33-F9DCB099BA1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5C07-C534-460A-A0AF-7F1D4F6180E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11C1-0B4B-4155-BDE9-A8818F84391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10D6-A56B-43D2-BEAC-C64C7067A9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679-ACA7-40D0-8E21-7F823CED027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AE36-F45F-4BB2-8005-B38C965AA1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4FB-FE46-4C90-9A22-33F94DD61F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091F-EDD2-46FF-AD38-3BA83E44295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2CE4-5161-4B7D-91AF-AFBD638C7E8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9F56-794D-4C72-AD1F-9FF604FECD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C986-AF57-4361-990F-ABFB11E2F96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F77-87BB-44B2-B38E-445DCC1D629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28DE-96AB-44D0-A441-8FE52F25F42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BF5-DF02-4A66-9FD0-C369EDB4C5C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1210-5230-48FD-BABC-9777D6278D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E201-6947-4D7C-8F71-E33125ACC2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AFE-A437-4B2C-B836-568F9C74A3D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102F-A1E0-4202-9F85-8B0245715B1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1B85-C182-4CB5-92C1-41D858AE107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210-B7E9-4112-AAFF-A5FC23B6C61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E64-0EBE-4FD8-988B-67C67A43047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5DDC-26D1-4EA9-AE4C-E7A98A2E3AE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7BF1-2320-4F0A-A4D6-8D6CF942792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9A44-BE58-4FFC-BEFE-562E3877C7F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B75A-A524-4FE7-AFBE-D83390AF857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6B7A-6358-464A-B15D-54F31A19185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9B8C-EC1B-4304-9637-831ED3F8C86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635E-FA38-4CC7-92E2-552FC52E28C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9A61-6F74-4A91-80CB-9B39F609832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854A-9399-49C5-A359-144A638948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4360-A192-46B6-BCF8-B4813A829F9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B0A-5C67-4A09-A8F6-C7FEFD486E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A4D-BCC3-4EB7-B056-475C8433B3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779-FFF4-467D-9B3C-E29E6536230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32769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32770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763640" y="692280"/>
            <a:ext cx="5283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比</a:t>
            </a:r>
            <a:endParaRPr b="0" i="1" lang="en-US" sz="4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370160" y="1986120"/>
            <a:ext cx="48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的基本性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解决问题，巩固发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2"/>
          <p:cNvSpPr/>
          <p:nvPr/>
        </p:nvSpPr>
        <p:spPr>
          <a:xfrm>
            <a:off x="682560" y="4869000"/>
            <a:ext cx="70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信息中你知道了什么？要求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0" name="Rectangle 2"/>
          <p:cNvSpPr/>
          <p:nvPr/>
        </p:nvSpPr>
        <p:spPr>
          <a:xfrm>
            <a:off x="1488960" y="573408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反馈交流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什么数？为什么要除以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1" name="Rectangle 2"/>
          <p:cNvSpPr/>
          <p:nvPr/>
        </p:nvSpPr>
        <p:spPr>
          <a:xfrm>
            <a:off x="1200240" y="3967200"/>
            <a:ext cx="597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÷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Rectangle 2"/>
          <p:cNvSpPr/>
          <p:nvPr/>
        </p:nvSpPr>
        <p:spPr>
          <a:xfrm>
            <a:off x="685800" y="6132600"/>
            <a:ext cx="7770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通过上面两个比的化简，你能说说化简整数比的方法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3" name="Rectangle 2"/>
          <p:cNvSpPr/>
          <p:nvPr/>
        </p:nvSpPr>
        <p:spPr>
          <a:xfrm>
            <a:off x="1476360" y="530208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己尝试解决问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4" name="组合 27655"/>
          <p:cNvGrpSpPr/>
          <p:nvPr/>
        </p:nvGrpSpPr>
        <p:grpSpPr>
          <a:xfrm>
            <a:off x="1405080" y="1811160"/>
            <a:ext cx="2568240" cy="1663920"/>
            <a:chOff x="1405080" y="1811160"/>
            <a:chExt cx="2568240" cy="1663920"/>
          </a:xfrm>
        </p:grpSpPr>
        <p:sp>
          <p:nvSpPr>
            <p:cNvPr id="1605" name="左大括号 13"/>
            <p:cNvSpPr/>
            <p:nvPr/>
          </p:nvSpPr>
          <p:spPr>
            <a:xfrm rot="16200000">
              <a:off x="2105280" y="2257200"/>
              <a:ext cx="217440" cy="16178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32040 h 1617840"/>
                <a:gd name="textAreaBottom" fmla="*/ 1585800 h 161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79"/>
                  </a:cubicBezTo>
                  <a:lnTo>
                    <a:pt x="10800" y="9421"/>
                  </a:lnTo>
                  <a:cubicBezTo>
                    <a:pt x="10800" y="10111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79"/>
                  </a:cubicBezTo>
                  <a:lnTo>
                    <a:pt x="10800" y="20221"/>
                  </a:lnTo>
                  <a:cubicBezTo>
                    <a:pt x="10800" y="2091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6" name="TextBox 15"/>
            <p:cNvSpPr/>
            <p:nvPr/>
          </p:nvSpPr>
          <p:spPr>
            <a:xfrm>
              <a:off x="1895760" y="3089160"/>
              <a:ext cx="642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7" name="左大括号 16"/>
            <p:cNvSpPr/>
            <p:nvPr/>
          </p:nvSpPr>
          <p:spPr>
            <a:xfrm rot="10800000">
              <a:off x="3049560" y="1815480"/>
              <a:ext cx="215640" cy="1079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33120 h 1079640"/>
                <a:gd name="textAreaBottom" fmla="*/ 104652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9"/>
                    <a:pt x="10800" y="2137"/>
                  </a:cubicBezTo>
                  <a:lnTo>
                    <a:pt x="10800" y="8663"/>
                  </a:lnTo>
                  <a:cubicBezTo>
                    <a:pt x="10800" y="9732"/>
                    <a:pt x="5400" y="10800"/>
                    <a:pt x="0" y="10800"/>
                  </a:cubicBezTo>
                  <a:cubicBezTo>
                    <a:pt x="5400" y="10800"/>
                    <a:pt x="10800" y="11869"/>
                    <a:pt x="10800" y="12937"/>
                  </a:cubicBezTo>
                  <a:lnTo>
                    <a:pt x="10800" y="19463"/>
                  </a:lnTo>
                  <a:cubicBezTo>
                    <a:pt x="10800" y="2053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8" name="TextBox 17"/>
            <p:cNvSpPr/>
            <p:nvPr/>
          </p:nvSpPr>
          <p:spPr>
            <a:xfrm>
              <a:off x="3181680" y="2138400"/>
              <a:ext cx="791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609" name="图片 27660" descr=""/>
            <p:cNvPicPr/>
            <p:nvPr/>
          </p:nvPicPr>
          <p:blipFill>
            <a:blip r:embed="rId1"/>
            <a:stretch/>
          </p:blipFill>
          <p:spPr>
            <a:xfrm>
              <a:off x="1406520" y="1811160"/>
              <a:ext cx="1620720" cy="10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0" name="组合 27661"/>
          <p:cNvGrpSpPr/>
          <p:nvPr/>
        </p:nvGrpSpPr>
        <p:grpSpPr>
          <a:xfrm>
            <a:off x="4284720" y="1550880"/>
            <a:ext cx="4260600" cy="2727360"/>
            <a:chOff x="4284720" y="1550880"/>
            <a:chExt cx="4260600" cy="2727360"/>
          </a:xfrm>
        </p:grpSpPr>
        <p:pic>
          <p:nvPicPr>
            <p:cNvPr id="1611" name="图片 27662" descr=""/>
            <p:cNvPicPr/>
            <p:nvPr/>
          </p:nvPicPr>
          <p:blipFill>
            <a:blip r:embed="rId2"/>
            <a:stretch/>
          </p:blipFill>
          <p:spPr>
            <a:xfrm>
              <a:off x="4285800" y="1550880"/>
              <a:ext cx="324504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左大括号 13"/>
            <p:cNvSpPr/>
            <p:nvPr/>
          </p:nvSpPr>
          <p:spPr>
            <a:xfrm rot="16200000">
              <a:off x="5794560" y="2279160"/>
              <a:ext cx="217440" cy="323712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64440 h 3237120"/>
                <a:gd name="textAreaBottom" fmla="*/ 3172680 h 32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79"/>
                  </a:cubicBezTo>
                  <a:lnTo>
                    <a:pt x="10800" y="9421"/>
                  </a:lnTo>
                  <a:cubicBezTo>
                    <a:pt x="10800" y="10111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79"/>
                  </a:cubicBezTo>
                  <a:lnTo>
                    <a:pt x="10800" y="20221"/>
                  </a:lnTo>
                  <a:cubicBezTo>
                    <a:pt x="10800" y="2091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3" name="TextBox 15"/>
            <p:cNvSpPr/>
            <p:nvPr/>
          </p:nvSpPr>
          <p:spPr>
            <a:xfrm>
              <a:off x="5549760" y="3892320"/>
              <a:ext cx="7552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4" name="左大括号 16"/>
            <p:cNvSpPr/>
            <p:nvPr/>
          </p:nvSpPr>
          <p:spPr>
            <a:xfrm rot="10800000">
              <a:off x="7588080" y="1571040"/>
              <a:ext cx="215640" cy="21589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5" name="TextBox 17"/>
            <p:cNvSpPr/>
            <p:nvPr/>
          </p:nvSpPr>
          <p:spPr>
            <a:xfrm>
              <a:off x="7753680" y="2427120"/>
              <a:ext cx="791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解决问题，巩固发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"/>
          <p:cNvSpPr/>
          <p:nvPr/>
        </p:nvSpPr>
        <p:spPr>
          <a:xfrm>
            <a:off x="324000" y="5013360"/>
            <a:ext cx="48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己尝试解决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8" name="Rectangle 2"/>
          <p:cNvSpPr/>
          <p:nvPr/>
        </p:nvSpPr>
        <p:spPr>
          <a:xfrm>
            <a:off x="1128600" y="55166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反馈交流：为什么要乘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9" name="Rectangle 2"/>
          <p:cNvSpPr/>
          <p:nvPr/>
        </p:nvSpPr>
        <p:spPr>
          <a:xfrm>
            <a:off x="395280" y="1413000"/>
            <a:ext cx="72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练习拓展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0" name="矩形 8"/>
          <p:cNvSpPr/>
          <p:nvPr/>
        </p:nvSpPr>
        <p:spPr>
          <a:xfrm>
            <a:off x="1547640" y="2205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：把下面各比化成最简单的整数比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1" name="Rectangle 2"/>
          <p:cNvSpPr/>
          <p:nvPr/>
        </p:nvSpPr>
        <p:spPr>
          <a:xfrm>
            <a:off x="338040" y="6021360"/>
            <a:ext cx="86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当一个比的前项和后项不是整数时，怎样把它化成最简单的整数比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2" name="组合 28679"/>
          <p:cNvGrpSpPr/>
          <p:nvPr/>
        </p:nvGrpSpPr>
        <p:grpSpPr>
          <a:xfrm>
            <a:off x="2373480" y="2646360"/>
            <a:ext cx="1089000" cy="824760"/>
            <a:chOff x="2373480" y="2646360"/>
            <a:chExt cx="1089000" cy="824760"/>
          </a:xfrm>
        </p:grpSpPr>
        <p:grpSp>
          <p:nvGrpSpPr>
            <p:cNvPr id="1623" name="组合 28680"/>
            <p:cNvGrpSpPr/>
            <p:nvPr/>
          </p:nvGrpSpPr>
          <p:grpSpPr>
            <a:xfrm>
              <a:off x="2373480" y="2656080"/>
              <a:ext cx="511200" cy="815040"/>
              <a:chOff x="2373480" y="2656080"/>
              <a:chExt cx="511200" cy="815040"/>
            </a:xfrm>
          </p:grpSpPr>
          <p:sp>
            <p:nvSpPr>
              <p:cNvPr id="1624" name="文本框 28681"/>
              <p:cNvSpPr/>
              <p:nvPr/>
            </p:nvSpPr>
            <p:spPr>
              <a:xfrm>
                <a:off x="2379600" y="30114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5" name="文本框 28682"/>
              <p:cNvSpPr/>
              <p:nvPr/>
            </p:nvSpPr>
            <p:spPr>
              <a:xfrm>
                <a:off x="2373480" y="2656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6" name="直接连接符 28683"/>
              <p:cNvSpPr/>
              <p:nvPr/>
            </p:nvSpPr>
            <p:spPr>
              <a:xfrm>
                <a:off x="2417760" y="30751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7" name="组合 28684"/>
            <p:cNvGrpSpPr/>
            <p:nvPr/>
          </p:nvGrpSpPr>
          <p:grpSpPr>
            <a:xfrm>
              <a:off x="2951280" y="2646360"/>
              <a:ext cx="511200" cy="815400"/>
              <a:chOff x="2951280" y="2646360"/>
              <a:chExt cx="511200" cy="815400"/>
            </a:xfrm>
          </p:grpSpPr>
          <p:sp>
            <p:nvSpPr>
              <p:cNvPr id="1628" name="文本框 28685"/>
              <p:cNvSpPr/>
              <p:nvPr/>
            </p:nvSpPr>
            <p:spPr>
              <a:xfrm>
                <a:off x="2957400" y="30020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9" name="文本框 28686"/>
              <p:cNvSpPr/>
              <p:nvPr/>
            </p:nvSpPr>
            <p:spPr>
              <a:xfrm>
                <a:off x="2951280" y="2646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0" name="直接连接符 28687"/>
              <p:cNvSpPr/>
              <p:nvPr/>
            </p:nvSpPr>
            <p:spPr>
              <a:xfrm>
                <a:off x="2995560" y="30657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1" name="矩形 28688"/>
            <p:cNvSpPr/>
            <p:nvPr/>
          </p:nvSpPr>
          <p:spPr>
            <a:xfrm>
              <a:off x="267588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32" name="文本框 28689"/>
          <p:cNvSpPr/>
          <p:nvPr/>
        </p:nvSpPr>
        <p:spPr>
          <a:xfrm>
            <a:off x="3917880" y="28195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7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33" name="组合 28690"/>
          <p:cNvGrpSpPr/>
          <p:nvPr/>
        </p:nvGrpSpPr>
        <p:grpSpPr>
          <a:xfrm>
            <a:off x="1173240" y="3519360"/>
            <a:ext cx="5327640" cy="824760"/>
            <a:chOff x="1173240" y="3519360"/>
            <a:chExt cx="5327640" cy="824760"/>
          </a:xfrm>
        </p:grpSpPr>
        <p:grpSp>
          <p:nvGrpSpPr>
            <p:cNvPr id="1634" name="组合 28691"/>
            <p:cNvGrpSpPr/>
            <p:nvPr/>
          </p:nvGrpSpPr>
          <p:grpSpPr>
            <a:xfrm>
              <a:off x="1173240" y="3519360"/>
              <a:ext cx="3293640" cy="824760"/>
              <a:chOff x="1173240" y="3519360"/>
              <a:chExt cx="3293640" cy="824760"/>
            </a:xfrm>
          </p:grpSpPr>
          <p:grpSp>
            <p:nvGrpSpPr>
              <p:cNvPr id="1635" name="组合 28692"/>
              <p:cNvGrpSpPr/>
              <p:nvPr/>
            </p:nvGrpSpPr>
            <p:grpSpPr>
              <a:xfrm>
                <a:off x="1173240" y="3519360"/>
                <a:ext cx="1087920" cy="824760"/>
                <a:chOff x="1173240" y="3519360"/>
                <a:chExt cx="1087920" cy="824760"/>
              </a:xfrm>
            </p:grpSpPr>
            <p:grpSp>
              <p:nvGrpSpPr>
                <p:cNvPr id="1636" name="组合 28693"/>
                <p:cNvGrpSpPr/>
                <p:nvPr/>
              </p:nvGrpSpPr>
              <p:grpSpPr>
                <a:xfrm>
                  <a:off x="1173240" y="3529080"/>
                  <a:ext cx="510480" cy="815040"/>
                  <a:chOff x="1173240" y="3529080"/>
                  <a:chExt cx="510480" cy="815040"/>
                </a:xfrm>
              </p:grpSpPr>
              <p:sp>
                <p:nvSpPr>
                  <p:cNvPr id="1637" name="文本框 28694"/>
                  <p:cNvSpPr/>
                  <p:nvPr/>
                </p:nvSpPr>
                <p:spPr>
                  <a:xfrm>
                    <a:off x="1179000" y="38844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8" name="文本框 28695"/>
                  <p:cNvSpPr/>
                  <p:nvPr/>
                </p:nvSpPr>
                <p:spPr>
                  <a:xfrm>
                    <a:off x="1173240" y="352908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9" name="直接连接符 28696"/>
                  <p:cNvSpPr/>
                  <p:nvPr/>
                </p:nvSpPr>
                <p:spPr>
                  <a:xfrm>
                    <a:off x="1217160" y="3948120"/>
                    <a:ext cx="252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640" name="组合 28697"/>
                <p:cNvGrpSpPr/>
                <p:nvPr/>
              </p:nvGrpSpPr>
              <p:grpSpPr>
                <a:xfrm>
                  <a:off x="1750680" y="3519360"/>
                  <a:ext cx="510480" cy="815400"/>
                  <a:chOff x="1750680" y="3519360"/>
                  <a:chExt cx="510480" cy="815400"/>
                </a:xfrm>
              </p:grpSpPr>
              <p:sp>
                <p:nvSpPr>
                  <p:cNvPr id="1641" name="文本框 28698"/>
                  <p:cNvSpPr/>
                  <p:nvPr/>
                </p:nvSpPr>
                <p:spPr>
                  <a:xfrm>
                    <a:off x="1756440" y="38750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9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42" name="文本框 28699"/>
                  <p:cNvSpPr/>
                  <p:nvPr/>
                </p:nvSpPr>
                <p:spPr>
                  <a:xfrm>
                    <a:off x="1750680" y="351936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43" name="直接连接符 28700"/>
                  <p:cNvSpPr/>
                  <p:nvPr/>
                </p:nvSpPr>
                <p:spPr>
                  <a:xfrm>
                    <a:off x="1794600" y="3938760"/>
                    <a:ext cx="252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644" name="矩形 28701"/>
                <p:cNvSpPr/>
                <p:nvPr/>
              </p:nvSpPr>
              <p:spPr>
                <a:xfrm>
                  <a:off x="1475280" y="369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︰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45" name="文本框 28702"/>
              <p:cNvSpPr/>
              <p:nvPr/>
            </p:nvSpPr>
            <p:spPr>
              <a:xfrm>
                <a:off x="2090520" y="3701880"/>
                <a:ext cx="23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︰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46" name="组合 28703"/>
              <p:cNvGrpSpPr/>
              <p:nvPr/>
            </p:nvGrpSpPr>
            <p:grpSpPr>
              <a:xfrm>
                <a:off x="2685960" y="3519360"/>
                <a:ext cx="510480" cy="815400"/>
                <a:chOff x="2685960" y="3519360"/>
                <a:chExt cx="510480" cy="815400"/>
              </a:xfrm>
            </p:grpSpPr>
            <p:sp>
              <p:nvSpPr>
                <p:cNvPr id="1647" name="文本框 28704"/>
                <p:cNvSpPr/>
                <p:nvPr/>
              </p:nvSpPr>
              <p:spPr>
                <a:xfrm>
                  <a:off x="2691720" y="3875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8" name="文本框 28705"/>
                <p:cNvSpPr/>
                <p:nvPr/>
              </p:nvSpPr>
              <p:spPr>
                <a:xfrm>
                  <a:off x="2685960" y="35193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9" name="直接连接符 28706"/>
                <p:cNvSpPr/>
                <p:nvPr/>
              </p:nvSpPr>
              <p:spPr>
                <a:xfrm>
                  <a:off x="2729880" y="3938760"/>
                  <a:ext cx="2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650" name="文本框 28707"/>
            <p:cNvSpPr/>
            <p:nvPr/>
          </p:nvSpPr>
          <p:spPr>
            <a:xfrm>
              <a:off x="3645000" y="3701880"/>
              <a:ext cx="28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1" name="组合 28708"/>
            <p:cNvGrpSpPr/>
            <p:nvPr/>
          </p:nvGrpSpPr>
          <p:grpSpPr>
            <a:xfrm>
              <a:off x="4240440" y="3519360"/>
              <a:ext cx="511200" cy="815400"/>
              <a:chOff x="4240440" y="3519360"/>
              <a:chExt cx="511200" cy="815400"/>
            </a:xfrm>
          </p:grpSpPr>
          <p:sp>
            <p:nvSpPr>
              <p:cNvPr id="1652" name="文本框 28709"/>
              <p:cNvSpPr/>
              <p:nvPr/>
            </p:nvSpPr>
            <p:spPr>
              <a:xfrm>
                <a:off x="4246560" y="38750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3" name="文本框 28710"/>
              <p:cNvSpPr/>
              <p:nvPr/>
            </p:nvSpPr>
            <p:spPr>
              <a:xfrm>
                <a:off x="4240440" y="351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4" name="直接连接符 28711"/>
              <p:cNvSpPr/>
              <p:nvPr/>
            </p:nvSpPr>
            <p:spPr>
              <a:xfrm>
                <a:off x="4284720" y="39387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55" name="文本框 28712"/>
          <p:cNvSpPr/>
          <p:nvPr/>
        </p:nvSpPr>
        <p:spPr>
          <a:xfrm>
            <a:off x="1116000" y="4508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7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7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7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解决问题，巩固发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2"/>
          <p:cNvSpPr/>
          <p:nvPr/>
        </p:nvSpPr>
        <p:spPr>
          <a:xfrm>
            <a:off x="1619280" y="4365720"/>
            <a:ext cx="468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自己尝试解决；反馈交流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8" name="Rectangle 2"/>
          <p:cNvSpPr/>
          <p:nvPr/>
        </p:nvSpPr>
        <p:spPr>
          <a:xfrm>
            <a:off x="395280" y="1413000"/>
            <a:ext cx="72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四）综合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9" name="Rectangle 2"/>
          <p:cNvSpPr/>
          <p:nvPr/>
        </p:nvSpPr>
        <p:spPr>
          <a:xfrm>
            <a:off x="1589040" y="2205000"/>
            <a:ext cx="46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把下面各比化成最简单的整数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0" name="Rectangle 2"/>
          <p:cNvSpPr/>
          <p:nvPr/>
        </p:nvSpPr>
        <p:spPr>
          <a:xfrm>
            <a:off x="1619280" y="2781360"/>
            <a:ext cx="139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1" name="Rectangle 2"/>
          <p:cNvSpPr/>
          <p:nvPr/>
        </p:nvSpPr>
        <p:spPr>
          <a:xfrm>
            <a:off x="2427120" y="2771640"/>
            <a:ext cx="13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2" name="Rectangle 2"/>
          <p:cNvSpPr/>
          <p:nvPr/>
        </p:nvSpPr>
        <p:spPr>
          <a:xfrm>
            <a:off x="3905280" y="278136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3" name="Rectangle 2"/>
          <p:cNvSpPr/>
          <p:nvPr/>
        </p:nvSpPr>
        <p:spPr>
          <a:xfrm>
            <a:off x="4721400" y="277164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4" name="Rectangle 2"/>
          <p:cNvSpPr/>
          <p:nvPr/>
        </p:nvSpPr>
        <p:spPr>
          <a:xfrm>
            <a:off x="6184800" y="2781360"/>
            <a:ext cx="139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1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3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5" name="Rectangle 2"/>
          <p:cNvSpPr/>
          <p:nvPr/>
        </p:nvSpPr>
        <p:spPr>
          <a:xfrm>
            <a:off x="7300800" y="278136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7" name="Rectangle 2"/>
          <p:cNvSpPr/>
          <p:nvPr/>
        </p:nvSpPr>
        <p:spPr>
          <a:xfrm>
            <a:off x="2417760" y="3543480"/>
            <a:ext cx="1395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8" name="Rectangle 2"/>
          <p:cNvSpPr/>
          <p:nvPr/>
        </p:nvSpPr>
        <p:spPr>
          <a:xfrm>
            <a:off x="4727520" y="3543480"/>
            <a:ext cx="1395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9" name="Rectangle 2"/>
          <p:cNvSpPr/>
          <p:nvPr/>
        </p:nvSpPr>
        <p:spPr>
          <a:xfrm>
            <a:off x="7334280" y="3529080"/>
            <a:ext cx="139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70" name="组合 29711"/>
          <p:cNvGrpSpPr/>
          <p:nvPr/>
        </p:nvGrpSpPr>
        <p:grpSpPr>
          <a:xfrm>
            <a:off x="1616040" y="3400560"/>
            <a:ext cx="1089000" cy="824760"/>
            <a:chOff x="1616040" y="3400560"/>
            <a:chExt cx="1089000" cy="824760"/>
          </a:xfrm>
        </p:grpSpPr>
        <p:grpSp>
          <p:nvGrpSpPr>
            <p:cNvPr id="1671" name="组合 29712"/>
            <p:cNvGrpSpPr/>
            <p:nvPr/>
          </p:nvGrpSpPr>
          <p:grpSpPr>
            <a:xfrm>
              <a:off x="1616040" y="3410280"/>
              <a:ext cx="511200" cy="815040"/>
              <a:chOff x="1616040" y="3410280"/>
              <a:chExt cx="511200" cy="815040"/>
            </a:xfrm>
          </p:grpSpPr>
          <p:sp>
            <p:nvSpPr>
              <p:cNvPr id="1672" name="文本框 29713"/>
              <p:cNvSpPr/>
              <p:nvPr/>
            </p:nvSpPr>
            <p:spPr>
              <a:xfrm>
                <a:off x="1622160" y="37656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文本框 29714"/>
              <p:cNvSpPr/>
              <p:nvPr/>
            </p:nvSpPr>
            <p:spPr>
              <a:xfrm>
                <a:off x="1616040" y="341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直接连接符 29715"/>
              <p:cNvSpPr/>
              <p:nvPr/>
            </p:nvSpPr>
            <p:spPr>
              <a:xfrm>
                <a:off x="1660320" y="38293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75" name="组合 29716"/>
            <p:cNvGrpSpPr/>
            <p:nvPr/>
          </p:nvGrpSpPr>
          <p:grpSpPr>
            <a:xfrm>
              <a:off x="2193840" y="3400560"/>
              <a:ext cx="511200" cy="815400"/>
              <a:chOff x="2193840" y="3400560"/>
              <a:chExt cx="511200" cy="815400"/>
            </a:xfrm>
          </p:grpSpPr>
          <p:sp>
            <p:nvSpPr>
              <p:cNvPr id="1676" name="文本框 29717"/>
              <p:cNvSpPr/>
              <p:nvPr/>
            </p:nvSpPr>
            <p:spPr>
              <a:xfrm>
                <a:off x="2199960" y="37562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7" name="文本框 29718"/>
              <p:cNvSpPr/>
              <p:nvPr/>
            </p:nvSpPr>
            <p:spPr>
              <a:xfrm>
                <a:off x="2193840" y="3400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8" name="直接连接符 29719"/>
              <p:cNvSpPr/>
              <p:nvPr/>
            </p:nvSpPr>
            <p:spPr>
              <a:xfrm>
                <a:off x="2238120" y="38199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9" name="矩形 29720"/>
            <p:cNvSpPr/>
            <p:nvPr/>
          </p:nvSpPr>
          <p:spPr>
            <a:xfrm>
              <a:off x="1918440" y="357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80" name="组合 29721"/>
          <p:cNvGrpSpPr/>
          <p:nvPr/>
        </p:nvGrpSpPr>
        <p:grpSpPr>
          <a:xfrm>
            <a:off x="3786120" y="3395520"/>
            <a:ext cx="1236600" cy="815040"/>
            <a:chOff x="3786120" y="3395520"/>
            <a:chExt cx="1236600" cy="815040"/>
          </a:xfrm>
        </p:grpSpPr>
        <p:grpSp>
          <p:nvGrpSpPr>
            <p:cNvPr id="1681" name="组合 29722"/>
            <p:cNvGrpSpPr/>
            <p:nvPr/>
          </p:nvGrpSpPr>
          <p:grpSpPr>
            <a:xfrm>
              <a:off x="4511520" y="3395520"/>
              <a:ext cx="511200" cy="815040"/>
              <a:chOff x="4511520" y="3395520"/>
              <a:chExt cx="511200" cy="815040"/>
            </a:xfrm>
          </p:grpSpPr>
          <p:sp>
            <p:nvSpPr>
              <p:cNvPr id="1682" name="文本框 29723"/>
              <p:cNvSpPr/>
              <p:nvPr/>
            </p:nvSpPr>
            <p:spPr>
              <a:xfrm>
                <a:off x="4517640" y="37508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3" name="文本框 29724"/>
              <p:cNvSpPr/>
              <p:nvPr/>
            </p:nvSpPr>
            <p:spPr>
              <a:xfrm>
                <a:off x="4511520" y="3395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4" name="直接连接符 29725"/>
              <p:cNvSpPr/>
              <p:nvPr/>
            </p:nvSpPr>
            <p:spPr>
              <a:xfrm>
                <a:off x="4555800" y="38145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5" name="矩形 29726"/>
            <p:cNvSpPr/>
            <p:nvPr/>
          </p:nvSpPr>
          <p:spPr>
            <a:xfrm>
              <a:off x="4226760" y="356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6" name="组合 29727"/>
            <p:cNvGrpSpPr/>
            <p:nvPr/>
          </p:nvGrpSpPr>
          <p:grpSpPr>
            <a:xfrm>
              <a:off x="3786120" y="3395520"/>
              <a:ext cx="504720" cy="815040"/>
              <a:chOff x="3786120" y="3395520"/>
              <a:chExt cx="504720" cy="815040"/>
            </a:xfrm>
          </p:grpSpPr>
          <p:sp>
            <p:nvSpPr>
              <p:cNvPr id="1687" name="文本框 29728"/>
              <p:cNvSpPr/>
              <p:nvPr/>
            </p:nvSpPr>
            <p:spPr>
              <a:xfrm>
                <a:off x="3786120" y="3750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文本框 29729"/>
              <p:cNvSpPr/>
              <p:nvPr/>
            </p:nvSpPr>
            <p:spPr>
              <a:xfrm>
                <a:off x="3875040" y="3395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直接连接符 29730"/>
              <p:cNvSpPr/>
              <p:nvPr/>
            </p:nvSpPr>
            <p:spPr>
              <a:xfrm>
                <a:off x="3852720" y="3814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90" name="组合 29731"/>
          <p:cNvGrpSpPr/>
          <p:nvPr/>
        </p:nvGrpSpPr>
        <p:grpSpPr>
          <a:xfrm>
            <a:off x="6150960" y="3394080"/>
            <a:ext cx="1478520" cy="815400"/>
            <a:chOff x="6150960" y="3394080"/>
            <a:chExt cx="1478520" cy="815400"/>
          </a:xfrm>
        </p:grpSpPr>
        <p:grpSp>
          <p:nvGrpSpPr>
            <p:cNvPr id="1691" name="组合 29732"/>
            <p:cNvGrpSpPr/>
            <p:nvPr/>
          </p:nvGrpSpPr>
          <p:grpSpPr>
            <a:xfrm>
              <a:off x="7118280" y="3394080"/>
              <a:ext cx="511200" cy="815400"/>
              <a:chOff x="7118280" y="3394080"/>
              <a:chExt cx="511200" cy="815400"/>
            </a:xfrm>
          </p:grpSpPr>
          <p:sp>
            <p:nvSpPr>
              <p:cNvPr id="1692" name="文本框 29733"/>
              <p:cNvSpPr/>
              <p:nvPr/>
            </p:nvSpPr>
            <p:spPr>
              <a:xfrm>
                <a:off x="7124400" y="374976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3" name="文本框 29734"/>
              <p:cNvSpPr/>
              <p:nvPr/>
            </p:nvSpPr>
            <p:spPr>
              <a:xfrm>
                <a:off x="7118280" y="3394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4" name="直接连接符 29735"/>
              <p:cNvSpPr/>
              <p:nvPr/>
            </p:nvSpPr>
            <p:spPr>
              <a:xfrm>
                <a:off x="7162560" y="381348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95" name="矩形 29736"/>
            <p:cNvSpPr/>
            <p:nvPr/>
          </p:nvSpPr>
          <p:spPr>
            <a:xfrm>
              <a:off x="6150960" y="358452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0.12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图片 30721" descr="45"/>
          <p:cNvPicPr/>
          <p:nvPr/>
        </p:nvPicPr>
        <p:blipFill>
          <a:blip r:embed="rId1"/>
          <a:stretch/>
        </p:blipFill>
        <p:spPr>
          <a:xfrm>
            <a:off x="6800760" y="3089160"/>
            <a:ext cx="1548000" cy="2590920"/>
          </a:xfrm>
          <a:prstGeom prst="rect">
            <a:avLst/>
          </a:prstGeom>
          <a:ln w="0">
            <a:noFill/>
          </a:ln>
        </p:spPr>
      </p:pic>
      <p:pic>
        <p:nvPicPr>
          <p:cNvPr id="1697" name="图片 30722" descr="44"/>
          <p:cNvPicPr/>
          <p:nvPr/>
        </p:nvPicPr>
        <p:blipFill>
          <a:blip r:embed="rId2"/>
          <a:stretch/>
        </p:blipFill>
        <p:spPr>
          <a:xfrm>
            <a:off x="6757920" y="1301760"/>
            <a:ext cx="1633680" cy="1835280"/>
          </a:xfrm>
          <a:prstGeom prst="rect">
            <a:avLst/>
          </a:prstGeom>
          <a:ln w="0">
            <a:noFill/>
          </a:ln>
        </p:spPr>
      </p:pic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139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拓展，介绍黄金比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2"/>
          <p:cNvSpPr/>
          <p:nvPr/>
        </p:nvSpPr>
        <p:spPr>
          <a:xfrm>
            <a:off x="307800" y="459900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听说过“黄金比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0" name="Rectangle 2"/>
          <p:cNvSpPr/>
          <p:nvPr/>
        </p:nvSpPr>
        <p:spPr>
          <a:xfrm>
            <a:off x="1114560" y="6256440"/>
            <a:ext cx="6465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还了解生活中的黄金比吗？课下查阅相关的资料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1" name="TextBox 12"/>
          <p:cNvSpPr/>
          <p:nvPr/>
        </p:nvSpPr>
        <p:spPr>
          <a:xfrm>
            <a:off x="395280" y="1484280"/>
            <a:ext cx="60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把一条线段分成两部分，如果较短部分与较长部分长度之比等于较长部分与整体长度之比，我们把这个比称为黄金比（约为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61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。当一个物体的两个部分长度的比大致符合黄金比时，常常会给人以一种优美的视觉感受，所以，设计许多物品时都含有黄金比这一因素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2" name="矩形 13"/>
          <p:cNvSpPr/>
          <p:nvPr/>
        </p:nvSpPr>
        <p:spPr>
          <a:xfrm>
            <a:off x="2402640" y="5535720"/>
            <a:ext cx="40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找一找除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b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外还有其他线段长度符合黄金比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3" name="矩形 14"/>
          <p:cNvSpPr/>
          <p:nvPr/>
        </p:nvSpPr>
        <p:spPr>
          <a:xfrm>
            <a:off x="2684880" y="50785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出示图片欣赏，介绍黄金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04" name="组合 30729"/>
          <p:cNvGrpSpPr/>
          <p:nvPr/>
        </p:nvGrpSpPr>
        <p:grpSpPr>
          <a:xfrm>
            <a:off x="7760880" y="1460520"/>
            <a:ext cx="597600" cy="385920"/>
            <a:chOff x="7760880" y="1460520"/>
            <a:chExt cx="597600" cy="385920"/>
          </a:xfrm>
        </p:grpSpPr>
        <p:sp>
          <p:nvSpPr>
            <p:cNvPr id="1705" name="TextBox 26"/>
            <p:cNvSpPr/>
            <p:nvPr/>
          </p:nvSpPr>
          <p:spPr>
            <a:xfrm>
              <a:off x="7926480" y="1460520"/>
              <a:ext cx="270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cxnSp>
          <p:nvCxnSpPr>
            <p:cNvPr id="1706" name="直接箭头连接符 27"/>
            <p:cNvCxnSpPr/>
            <p:nvPr/>
          </p:nvCxnSpPr>
          <p:spPr>
            <a:xfrm flipH="1">
              <a:off x="7760880" y="1703160"/>
              <a:ext cx="216720" cy="1080"/>
            </a:xfrm>
            <a:prstGeom prst="straightConnector1">
              <a:avLst/>
            </a:prstGeom>
            <a:ln w="19080">
              <a:solidFill>
                <a:srgbClr val="ff00ff"/>
              </a:solidFill>
              <a:round/>
              <a:tailEnd len="med" type="triangle" w="med"/>
            </a:ln>
          </p:spPr>
        </p:cxnSp>
        <p:cxnSp>
          <p:nvCxnSpPr>
            <p:cNvPr id="1707" name="直接箭头连接符 28"/>
            <p:cNvCxnSpPr/>
            <p:nvPr/>
          </p:nvCxnSpPr>
          <p:spPr>
            <a:xfrm>
              <a:off x="8142120" y="1693440"/>
              <a:ext cx="216720" cy="1080"/>
            </a:xfrm>
            <a:prstGeom prst="straightConnector1">
              <a:avLst/>
            </a:prstGeom>
            <a:ln w="19080">
              <a:solidFill>
                <a:srgbClr val="ff00ff"/>
              </a:solidFill>
              <a:round/>
              <a:tailEnd len="med" type="triangle" w="med"/>
            </a:ln>
          </p:spPr>
        </p:cxnSp>
      </p:grpSp>
      <p:grpSp>
        <p:nvGrpSpPr>
          <p:cNvPr id="1708" name="组合 30733"/>
          <p:cNvGrpSpPr/>
          <p:nvPr/>
        </p:nvGrpSpPr>
        <p:grpSpPr>
          <a:xfrm>
            <a:off x="7681680" y="3195000"/>
            <a:ext cx="293400" cy="1009080"/>
            <a:chOff x="7681680" y="3195000"/>
            <a:chExt cx="293400" cy="1009080"/>
          </a:xfrm>
        </p:grpSpPr>
        <p:cxnSp>
          <p:nvCxnSpPr>
            <p:cNvPr id="1709" name="直接箭头连接符 17"/>
            <p:cNvCxnSpPr/>
            <p:nvPr/>
          </p:nvCxnSpPr>
          <p:spPr>
            <a:xfrm flipV="1">
              <a:off x="7846560" y="3195000"/>
              <a:ext cx="1080" cy="361080"/>
            </a:xfrm>
            <a:prstGeom prst="straightConnector1">
              <a:avLst/>
            </a:prstGeom>
            <a:ln w="19080">
              <a:solidFill>
                <a:srgbClr val="ff00ff"/>
              </a:solidFill>
              <a:round/>
              <a:tailEnd len="med" type="triangle" w="med"/>
            </a:ln>
          </p:spPr>
        </p:cxnSp>
        <p:cxnSp>
          <p:nvCxnSpPr>
            <p:cNvPr id="1710" name="直接箭头连接符 23"/>
            <p:cNvCxnSpPr/>
            <p:nvPr/>
          </p:nvCxnSpPr>
          <p:spPr>
            <a:xfrm>
              <a:off x="7846560" y="3771720"/>
              <a:ext cx="1080" cy="432720"/>
            </a:xfrm>
            <a:prstGeom prst="straightConnector1">
              <a:avLst/>
            </a:prstGeom>
            <a:ln w="19080">
              <a:solidFill>
                <a:srgbClr val="ff00ff"/>
              </a:solidFill>
              <a:round/>
              <a:tailEnd len="med" type="triangle" w="med"/>
            </a:ln>
          </p:spPr>
        </p:cxnSp>
        <p:sp>
          <p:nvSpPr>
            <p:cNvPr id="1711" name="TextBox 49"/>
            <p:cNvSpPr/>
            <p:nvPr/>
          </p:nvSpPr>
          <p:spPr>
            <a:xfrm>
              <a:off x="7681680" y="3382920"/>
              <a:ext cx="2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12" name="矩形 30737"/>
          <p:cNvSpPr/>
          <p:nvPr/>
        </p:nvSpPr>
        <p:spPr>
          <a:xfrm>
            <a:off x="1442880" y="5897520"/>
            <a:ext cx="21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也符合黄金比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714" name="图片 31746" descr=""/>
          <p:cNvPicPr/>
          <p:nvPr/>
        </p:nvPicPr>
        <p:blipFill>
          <a:blip r:embed="rId2"/>
          <a:stretch/>
        </p:blipFill>
        <p:spPr>
          <a:xfrm>
            <a:off x="347760" y="285840"/>
            <a:ext cx="8410320" cy="62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6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18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719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720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722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723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探究比的基本性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1192320" y="3933720"/>
            <a:ext cx="72673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小明、小强和小丽谁折得快？  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创设情境，激发兴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Rectangle 2"/>
          <p:cNvSpPr/>
          <p:nvPr/>
        </p:nvSpPr>
        <p:spPr>
          <a:xfrm>
            <a:off x="1187280" y="2133720"/>
            <a:ext cx="734544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明、小强、小丽都喜欢制作折纸。有一天，他们三人在争论谁每分钟折的纸鹤数多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明说：“我折的纸鹤数与时间（分）的比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强说：“我折的纸鹤数与时间（分）的比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丽说：“我折的纸鹤数与时间（分）的比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488" name="Object 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0" name="组合 19462"/>
          <p:cNvGrpSpPr/>
          <p:nvPr/>
        </p:nvGrpSpPr>
        <p:grpSpPr>
          <a:xfrm>
            <a:off x="1197000" y="4724280"/>
            <a:ext cx="4300560" cy="2414160"/>
            <a:chOff x="1197000" y="4724280"/>
            <a:chExt cx="4300560" cy="2414160"/>
          </a:xfrm>
        </p:grpSpPr>
        <p:grpSp>
          <p:nvGrpSpPr>
            <p:cNvPr id="1491" name="组合 19463"/>
            <p:cNvGrpSpPr/>
            <p:nvPr/>
          </p:nvGrpSpPr>
          <p:grpSpPr>
            <a:xfrm>
              <a:off x="2041560" y="4724280"/>
              <a:ext cx="3456000" cy="2414160"/>
              <a:chOff x="2041560" y="4724280"/>
              <a:chExt cx="3456000" cy="2414160"/>
            </a:xfrm>
          </p:grpSpPr>
          <p:sp>
            <p:nvSpPr>
              <p:cNvPr id="1492" name="文本框 19464"/>
              <p:cNvSpPr/>
              <p:nvPr/>
            </p:nvSpPr>
            <p:spPr>
              <a:xfrm>
                <a:off x="2041560" y="4830840"/>
                <a:ext cx="3456000" cy="230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︰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 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︰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︰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  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493" name="组合 19465"/>
              <p:cNvGrpSpPr/>
              <p:nvPr/>
            </p:nvGrpSpPr>
            <p:grpSpPr>
              <a:xfrm>
                <a:off x="3701880" y="4734000"/>
                <a:ext cx="511200" cy="815400"/>
                <a:chOff x="3701880" y="4734000"/>
                <a:chExt cx="511200" cy="815400"/>
              </a:xfrm>
            </p:grpSpPr>
            <p:sp>
              <p:nvSpPr>
                <p:cNvPr id="1494" name="文本框 19466"/>
                <p:cNvSpPr/>
                <p:nvPr/>
              </p:nvSpPr>
              <p:spPr>
                <a:xfrm>
                  <a:off x="3708000" y="508968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495" name="文本框 19467"/>
                <p:cNvSpPr/>
                <p:nvPr/>
              </p:nvSpPr>
              <p:spPr>
                <a:xfrm>
                  <a:off x="3701880" y="4734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496" name="直接连接符 19468"/>
                <p:cNvSpPr/>
                <p:nvPr/>
              </p:nvSpPr>
              <p:spPr>
                <a:xfrm>
                  <a:off x="3746160" y="515340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497" name="组合 19469"/>
              <p:cNvGrpSpPr/>
              <p:nvPr/>
            </p:nvGrpSpPr>
            <p:grpSpPr>
              <a:xfrm>
                <a:off x="4206600" y="4724280"/>
                <a:ext cx="511200" cy="815400"/>
                <a:chOff x="4206600" y="4724280"/>
                <a:chExt cx="511200" cy="815400"/>
              </a:xfrm>
            </p:grpSpPr>
            <p:sp>
              <p:nvSpPr>
                <p:cNvPr id="1498" name="文本框 19470"/>
                <p:cNvSpPr/>
                <p:nvPr/>
              </p:nvSpPr>
              <p:spPr>
                <a:xfrm>
                  <a:off x="4212720" y="507996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499" name="文本框 19471"/>
                <p:cNvSpPr/>
                <p:nvPr/>
              </p:nvSpPr>
              <p:spPr>
                <a:xfrm>
                  <a:off x="4206600" y="4724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00" name="直接连接符 19472"/>
                <p:cNvSpPr/>
                <p:nvPr/>
              </p:nvSpPr>
              <p:spPr>
                <a:xfrm>
                  <a:off x="4250880" y="514368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501" name="组合 19473"/>
              <p:cNvGrpSpPr/>
              <p:nvPr/>
            </p:nvGrpSpPr>
            <p:grpSpPr>
              <a:xfrm>
                <a:off x="3703680" y="5348160"/>
                <a:ext cx="511200" cy="815400"/>
                <a:chOff x="3703680" y="5348160"/>
                <a:chExt cx="511200" cy="815400"/>
              </a:xfrm>
            </p:grpSpPr>
            <p:sp>
              <p:nvSpPr>
                <p:cNvPr id="1502" name="文本框 19474"/>
                <p:cNvSpPr/>
                <p:nvPr/>
              </p:nvSpPr>
              <p:spPr>
                <a:xfrm>
                  <a:off x="3709800" y="570384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03" name="文本框 19475"/>
                <p:cNvSpPr/>
                <p:nvPr/>
              </p:nvSpPr>
              <p:spPr>
                <a:xfrm>
                  <a:off x="3703680" y="5348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04" name="直接连接符 19476"/>
                <p:cNvSpPr/>
                <p:nvPr/>
              </p:nvSpPr>
              <p:spPr>
                <a:xfrm>
                  <a:off x="3747960" y="576756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505" name="组合 19477"/>
              <p:cNvGrpSpPr/>
              <p:nvPr/>
            </p:nvGrpSpPr>
            <p:grpSpPr>
              <a:xfrm>
                <a:off x="4263840" y="5943600"/>
                <a:ext cx="505080" cy="815040"/>
                <a:chOff x="4263840" y="5943600"/>
                <a:chExt cx="505080" cy="815040"/>
              </a:xfrm>
            </p:grpSpPr>
            <p:sp>
              <p:nvSpPr>
                <p:cNvPr id="1506" name="文本框 19478"/>
                <p:cNvSpPr/>
                <p:nvPr/>
              </p:nvSpPr>
              <p:spPr>
                <a:xfrm>
                  <a:off x="4263840" y="629892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6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07" name="文本框 19479"/>
                <p:cNvSpPr/>
                <p:nvPr/>
              </p:nvSpPr>
              <p:spPr>
                <a:xfrm>
                  <a:off x="4271760" y="5943600"/>
                  <a:ext cx="476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08" name="直接连接符 19480"/>
                <p:cNvSpPr/>
                <p:nvPr/>
              </p:nvSpPr>
              <p:spPr>
                <a:xfrm>
                  <a:off x="4330800" y="63626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509" name="组合 19481"/>
              <p:cNvGrpSpPr/>
              <p:nvPr/>
            </p:nvGrpSpPr>
            <p:grpSpPr>
              <a:xfrm>
                <a:off x="4917960" y="5935680"/>
                <a:ext cx="511200" cy="815400"/>
                <a:chOff x="4917960" y="5935680"/>
                <a:chExt cx="511200" cy="815400"/>
              </a:xfrm>
            </p:grpSpPr>
            <p:sp>
              <p:nvSpPr>
                <p:cNvPr id="1510" name="文本框 19482"/>
                <p:cNvSpPr/>
                <p:nvPr/>
              </p:nvSpPr>
              <p:spPr>
                <a:xfrm>
                  <a:off x="4924080" y="629136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1" name="文本框 19483"/>
                <p:cNvSpPr/>
                <p:nvPr/>
              </p:nvSpPr>
              <p:spPr>
                <a:xfrm>
                  <a:off x="4917960" y="59356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2" name="直接连接符 19484"/>
                <p:cNvSpPr/>
                <p:nvPr/>
              </p:nvSpPr>
              <p:spPr>
                <a:xfrm>
                  <a:off x="4962240" y="635508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13" name="矩形 19485"/>
            <p:cNvSpPr/>
            <p:nvPr/>
          </p:nvSpPr>
          <p:spPr>
            <a:xfrm>
              <a:off x="1197000" y="485928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4" name="矩形 19487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探究比的基本性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2"/>
          <p:cNvSpPr/>
          <p:nvPr/>
        </p:nvSpPr>
        <p:spPr>
          <a:xfrm>
            <a:off x="826920" y="4467240"/>
            <a:ext cx="72676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三个比有什么相同和不同之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7" name="Rectangle 2"/>
          <p:cNvSpPr/>
          <p:nvPr/>
        </p:nvSpPr>
        <p:spPr>
          <a:xfrm>
            <a:off x="1631880" y="5448240"/>
            <a:ext cx="6897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三个比中有什么规律？这与除法中的商不变的性质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什么联系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8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创设情境，激发兴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9" name="组合 20485"/>
          <p:cNvGrpSpPr/>
          <p:nvPr/>
        </p:nvGrpSpPr>
        <p:grpSpPr>
          <a:xfrm>
            <a:off x="2022480" y="2193840"/>
            <a:ext cx="3456000" cy="2414160"/>
            <a:chOff x="2022480" y="2193840"/>
            <a:chExt cx="3456000" cy="2414160"/>
          </a:xfrm>
        </p:grpSpPr>
        <p:sp>
          <p:nvSpPr>
            <p:cNvPr id="1520" name="文本框 20486"/>
            <p:cNvSpPr/>
            <p:nvPr/>
          </p:nvSpPr>
          <p:spPr>
            <a:xfrm>
              <a:off x="2022480" y="2300400"/>
              <a:ext cx="3456000" cy="23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︰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1" name="组合 20487"/>
            <p:cNvGrpSpPr/>
            <p:nvPr/>
          </p:nvGrpSpPr>
          <p:grpSpPr>
            <a:xfrm>
              <a:off x="3682800" y="2203560"/>
              <a:ext cx="511200" cy="815400"/>
              <a:chOff x="3682800" y="2203560"/>
              <a:chExt cx="511200" cy="815400"/>
            </a:xfrm>
          </p:grpSpPr>
          <p:sp>
            <p:nvSpPr>
              <p:cNvPr id="1522" name="文本框 20488"/>
              <p:cNvSpPr/>
              <p:nvPr/>
            </p:nvSpPr>
            <p:spPr>
              <a:xfrm>
                <a:off x="3688920" y="25592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3" name="文本框 20489"/>
              <p:cNvSpPr/>
              <p:nvPr/>
            </p:nvSpPr>
            <p:spPr>
              <a:xfrm>
                <a:off x="3682800" y="2203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4" name="直接连接符 20490"/>
              <p:cNvSpPr/>
              <p:nvPr/>
            </p:nvSpPr>
            <p:spPr>
              <a:xfrm>
                <a:off x="3727080" y="26229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25" name="组合 20491"/>
            <p:cNvGrpSpPr/>
            <p:nvPr/>
          </p:nvGrpSpPr>
          <p:grpSpPr>
            <a:xfrm>
              <a:off x="4187520" y="2193840"/>
              <a:ext cx="511200" cy="815400"/>
              <a:chOff x="4187520" y="2193840"/>
              <a:chExt cx="511200" cy="815400"/>
            </a:xfrm>
          </p:grpSpPr>
          <p:sp>
            <p:nvSpPr>
              <p:cNvPr id="1526" name="文本框 20492"/>
              <p:cNvSpPr/>
              <p:nvPr/>
            </p:nvSpPr>
            <p:spPr>
              <a:xfrm>
                <a:off x="4193640" y="25495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7" name="文本框 20493"/>
              <p:cNvSpPr/>
              <p:nvPr/>
            </p:nvSpPr>
            <p:spPr>
              <a:xfrm>
                <a:off x="4187520" y="2193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8" name="直接连接符 20494"/>
              <p:cNvSpPr/>
              <p:nvPr/>
            </p:nvSpPr>
            <p:spPr>
              <a:xfrm>
                <a:off x="4231800" y="26132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29" name="组合 20495"/>
            <p:cNvGrpSpPr/>
            <p:nvPr/>
          </p:nvGrpSpPr>
          <p:grpSpPr>
            <a:xfrm>
              <a:off x="3684600" y="2817720"/>
              <a:ext cx="511200" cy="815400"/>
              <a:chOff x="3684600" y="2817720"/>
              <a:chExt cx="511200" cy="815400"/>
            </a:xfrm>
          </p:grpSpPr>
          <p:sp>
            <p:nvSpPr>
              <p:cNvPr id="1530" name="文本框 20496"/>
              <p:cNvSpPr/>
              <p:nvPr/>
            </p:nvSpPr>
            <p:spPr>
              <a:xfrm>
                <a:off x="3690720" y="31734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1" name="文本框 20497"/>
              <p:cNvSpPr/>
              <p:nvPr/>
            </p:nvSpPr>
            <p:spPr>
              <a:xfrm>
                <a:off x="3684600" y="2817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2" name="直接连接符 20498"/>
              <p:cNvSpPr/>
              <p:nvPr/>
            </p:nvSpPr>
            <p:spPr>
              <a:xfrm>
                <a:off x="3728880" y="32371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33" name="组合 20499"/>
            <p:cNvGrpSpPr/>
            <p:nvPr/>
          </p:nvGrpSpPr>
          <p:grpSpPr>
            <a:xfrm>
              <a:off x="4244760" y="3413160"/>
              <a:ext cx="505080" cy="815040"/>
              <a:chOff x="4244760" y="3413160"/>
              <a:chExt cx="505080" cy="815040"/>
            </a:xfrm>
          </p:grpSpPr>
          <p:sp>
            <p:nvSpPr>
              <p:cNvPr id="1534" name="文本框 20500"/>
              <p:cNvSpPr/>
              <p:nvPr/>
            </p:nvSpPr>
            <p:spPr>
              <a:xfrm>
                <a:off x="4244760" y="376848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5" name="文本框 20501"/>
              <p:cNvSpPr/>
              <p:nvPr/>
            </p:nvSpPr>
            <p:spPr>
              <a:xfrm>
                <a:off x="4252680" y="341316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6" name="直接连接符 20502"/>
              <p:cNvSpPr/>
              <p:nvPr/>
            </p:nvSpPr>
            <p:spPr>
              <a:xfrm>
                <a:off x="4311720" y="3832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37" name="组合 20503"/>
            <p:cNvGrpSpPr/>
            <p:nvPr/>
          </p:nvGrpSpPr>
          <p:grpSpPr>
            <a:xfrm>
              <a:off x="4898880" y="3405240"/>
              <a:ext cx="511200" cy="815400"/>
              <a:chOff x="4898880" y="3405240"/>
              <a:chExt cx="511200" cy="815400"/>
            </a:xfrm>
          </p:grpSpPr>
          <p:sp>
            <p:nvSpPr>
              <p:cNvPr id="1538" name="文本框 20504"/>
              <p:cNvSpPr/>
              <p:nvPr/>
            </p:nvSpPr>
            <p:spPr>
              <a:xfrm>
                <a:off x="4905000" y="37609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9" name="文本框 20505"/>
              <p:cNvSpPr/>
              <p:nvPr/>
            </p:nvSpPr>
            <p:spPr>
              <a:xfrm>
                <a:off x="4898880" y="3405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直接连接符 20506"/>
              <p:cNvSpPr/>
              <p:nvPr/>
            </p:nvSpPr>
            <p:spPr>
              <a:xfrm>
                <a:off x="4943160" y="38246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41" name="矩形 20507"/>
          <p:cNvSpPr/>
          <p:nvPr/>
        </p:nvSpPr>
        <p:spPr>
          <a:xfrm>
            <a:off x="4544640" y="50911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预设：比的前项、后项都不相同，可是比值却相同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2" name="矩形 20509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探究比的基本性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2"/>
          <p:cNvSpPr/>
          <p:nvPr/>
        </p:nvSpPr>
        <p:spPr>
          <a:xfrm>
            <a:off x="611280" y="5084640"/>
            <a:ext cx="726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借助商不变的性质你发现比中有什么规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5" name="Rectangle 2"/>
          <p:cNvSpPr/>
          <p:nvPr/>
        </p:nvSpPr>
        <p:spPr>
          <a:xfrm>
            <a:off x="611280" y="575784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结：比的前项和后项同时乘或除以相同的数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除外），比值不变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这叫做比的基本性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自主探究，汇报交流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TextBox 11"/>
          <p:cNvSpPr/>
          <p:nvPr/>
        </p:nvSpPr>
        <p:spPr>
          <a:xfrm>
            <a:off x="2124000" y="2349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TextBox 12"/>
          <p:cNvSpPr/>
          <p:nvPr/>
        </p:nvSpPr>
        <p:spPr>
          <a:xfrm>
            <a:off x="2125800" y="429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9" name="TextBox 13"/>
          <p:cNvSpPr/>
          <p:nvPr/>
        </p:nvSpPr>
        <p:spPr>
          <a:xfrm>
            <a:off x="2124000" y="353052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TextBox 11"/>
          <p:cNvSpPr/>
          <p:nvPr/>
        </p:nvSpPr>
        <p:spPr>
          <a:xfrm>
            <a:off x="2124000" y="31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矩形 15"/>
          <p:cNvSpPr/>
          <p:nvPr/>
        </p:nvSpPr>
        <p:spPr>
          <a:xfrm>
            <a:off x="2958840" y="3130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矩形 16"/>
          <p:cNvSpPr/>
          <p:nvPr/>
        </p:nvSpPr>
        <p:spPr>
          <a:xfrm>
            <a:off x="5272200" y="313200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下箭头 18"/>
          <p:cNvSpPr/>
          <p:nvPr/>
        </p:nvSpPr>
        <p:spPr>
          <a:xfrm>
            <a:off x="4140360" y="2765520"/>
            <a:ext cx="144360" cy="4334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e8e8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下箭头 19"/>
          <p:cNvSpPr/>
          <p:nvPr/>
        </p:nvSpPr>
        <p:spPr>
          <a:xfrm>
            <a:off x="2427120" y="2765520"/>
            <a:ext cx="142920" cy="4334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e8e8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下箭头 20"/>
          <p:cNvSpPr/>
          <p:nvPr/>
        </p:nvSpPr>
        <p:spPr>
          <a:xfrm>
            <a:off x="5959440" y="2765520"/>
            <a:ext cx="144360" cy="4334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e8e8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矩形 21"/>
          <p:cNvSpPr/>
          <p:nvPr/>
        </p:nvSpPr>
        <p:spPr>
          <a:xfrm>
            <a:off x="2652840" y="3529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矩形 22"/>
          <p:cNvSpPr/>
          <p:nvPr/>
        </p:nvSpPr>
        <p:spPr>
          <a:xfrm>
            <a:off x="5235480" y="3529080"/>
            <a:ext cx="12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8" name="下箭头 23"/>
          <p:cNvSpPr/>
          <p:nvPr/>
        </p:nvSpPr>
        <p:spPr>
          <a:xfrm rot="10800000">
            <a:off x="2411280" y="3933720"/>
            <a:ext cx="144720" cy="43200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e8e8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下箭头 24"/>
          <p:cNvSpPr/>
          <p:nvPr/>
        </p:nvSpPr>
        <p:spPr>
          <a:xfrm rot="10800000">
            <a:off x="4140000" y="3933720"/>
            <a:ext cx="1443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e8e8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0" name="下箭头 25"/>
          <p:cNvSpPr/>
          <p:nvPr/>
        </p:nvSpPr>
        <p:spPr>
          <a:xfrm rot="10800000">
            <a:off x="5803560" y="3933720"/>
            <a:ext cx="1443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e8e8f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1" name="矩形 21524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探究比的基本性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2"/>
          <p:cNvSpPr/>
          <p:nvPr/>
        </p:nvSpPr>
        <p:spPr>
          <a:xfrm>
            <a:off x="1120680" y="40766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说一说你是怎样快速说出比值的？根据是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质疑辨析，深化认识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5" name="Rectangle 2"/>
          <p:cNvSpPr/>
          <p:nvPr/>
        </p:nvSpPr>
        <p:spPr>
          <a:xfrm>
            <a:off x="1116000" y="2276640"/>
            <a:ext cx="5327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说出下面各比的比值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    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4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8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    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8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    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6" name="文本框 22533"/>
          <p:cNvSpPr/>
          <p:nvPr/>
        </p:nvSpPr>
        <p:spPr>
          <a:xfrm>
            <a:off x="3500280" y="2617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7" name="文本框 22534"/>
          <p:cNvSpPr/>
          <p:nvPr/>
        </p:nvSpPr>
        <p:spPr>
          <a:xfrm>
            <a:off x="3510000" y="3029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8" name="文本框 22535"/>
          <p:cNvSpPr/>
          <p:nvPr/>
        </p:nvSpPr>
        <p:spPr>
          <a:xfrm>
            <a:off x="3521160" y="3457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9" name="矩形 22536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2"/>
          <p:cNvSpPr/>
          <p:nvPr/>
        </p:nvSpPr>
        <p:spPr>
          <a:xfrm>
            <a:off x="1116000" y="2278080"/>
            <a:ext cx="5329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判断并说明理由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7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探究比的基本性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2"/>
          <p:cNvSpPr/>
          <p:nvPr/>
        </p:nvSpPr>
        <p:spPr>
          <a:xfrm>
            <a:off x="1192320" y="4221000"/>
            <a:ext cx="726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你觉得这种做法正确吗？如果错误，错在哪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Rectangle 2"/>
          <p:cNvSpPr/>
          <p:nvPr/>
        </p:nvSpPr>
        <p:spPr>
          <a:xfrm>
            <a:off x="395280" y="148428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质疑辨析，深化认识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矩形 23557"/>
          <p:cNvSpPr/>
          <p:nvPr/>
        </p:nvSpPr>
        <p:spPr>
          <a:xfrm>
            <a:off x="414000" y="57340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解决问题，巩固发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2"/>
          <p:cNvSpPr/>
          <p:nvPr/>
        </p:nvSpPr>
        <p:spPr>
          <a:xfrm>
            <a:off x="1187280" y="4005360"/>
            <a:ext cx="705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哪些是整数比？哪些比的前项和后项是互质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7" name="Rectangle 2"/>
          <p:cNvSpPr/>
          <p:nvPr/>
        </p:nvSpPr>
        <p:spPr>
          <a:xfrm>
            <a:off x="395280" y="1413000"/>
            <a:ext cx="64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明确什么是最简单的整数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8" name="Rectangle 2"/>
          <p:cNvSpPr/>
          <p:nvPr/>
        </p:nvSpPr>
        <p:spPr>
          <a:xfrm>
            <a:off x="1187280" y="4653000"/>
            <a:ext cx="70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结：前项和后项都是整数，而且又是互质数，这样的比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就叫最简单的整数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9" name="Rectangle 2"/>
          <p:cNvSpPr/>
          <p:nvPr/>
        </p:nvSpPr>
        <p:spPr>
          <a:xfrm>
            <a:off x="1763640" y="2492280"/>
            <a:ext cx="518472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7     4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       3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5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       5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       7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︰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解决问题，巩固发展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2"/>
          <p:cNvSpPr/>
          <p:nvPr/>
        </p:nvSpPr>
        <p:spPr>
          <a:xfrm>
            <a:off x="395280" y="142236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化简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2" name="Rectangle 2"/>
          <p:cNvSpPr/>
          <p:nvPr/>
        </p:nvSpPr>
        <p:spPr>
          <a:xfrm>
            <a:off x="1298520" y="207972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神舟”五号搭载了两面联合国旗，一面长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宽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另一面长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宽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这两面联合国旗的长和宽的最简单的整数比分别是多少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3" name="图片 25604" descr=""/>
          <p:cNvPicPr/>
          <p:nvPr/>
        </p:nvPicPr>
        <p:blipFill>
          <a:blip r:embed="rId1"/>
          <a:stretch/>
        </p:blipFill>
        <p:spPr>
          <a:xfrm>
            <a:off x="5622840" y="2084400"/>
            <a:ext cx="2757600" cy="1873080"/>
          </a:xfrm>
          <a:prstGeom prst="rect">
            <a:avLst/>
          </a:prstGeom>
          <a:ln w="0">
            <a:noFill/>
          </a:ln>
        </p:spPr>
      </p:pic>
      <p:grpSp>
        <p:nvGrpSpPr>
          <p:cNvPr id="1584" name="组合 25605"/>
          <p:cNvGrpSpPr/>
          <p:nvPr/>
        </p:nvGrpSpPr>
        <p:grpSpPr>
          <a:xfrm>
            <a:off x="971640" y="4581360"/>
            <a:ext cx="2568240" cy="1663920"/>
            <a:chOff x="971640" y="4581360"/>
            <a:chExt cx="2568240" cy="1663920"/>
          </a:xfrm>
        </p:grpSpPr>
        <p:sp>
          <p:nvSpPr>
            <p:cNvPr id="1585" name="左大括号 13"/>
            <p:cNvSpPr/>
            <p:nvPr/>
          </p:nvSpPr>
          <p:spPr>
            <a:xfrm rot="16200000">
              <a:off x="1671840" y="5027400"/>
              <a:ext cx="217440" cy="16178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32040 h 1617840"/>
                <a:gd name="textAreaBottom" fmla="*/ 1585800 h 161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79"/>
                  </a:cubicBezTo>
                  <a:lnTo>
                    <a:pt x="10800" y="9421"/>
                  </a:lnTo>
                  <a:cubicBezTo>
                    <a:pt x="10800" y="10111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79"/>
                  </a:cubicBezTo>
                  <a:lnTo>
                    <a:pt x="10800" y="20221"/>
                  </a:lnTo>
                  <a:cubicBezTo>
                    <a:pt x="10800" y="2091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6" name="TextBox 15"/>
            <p:cNvSpPr/>
            <p:nvPr/>
          </p:nvSpPr>
          <p:spPr>
            <a:xfrm>
              <a:off x="1462320" y="5859360"/>
              <a:ext cx="642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7" name="左大括号 16"/>
            <p:cNvSpPr/>
            <p:nvPr/>
          </p:nvSpPr>
          <p:spPr>
            <a:xfrm rot="10800000">
              <a:off x="2616120" y="4585680"/>
              <a:ext cx="215640" cy="1079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33120 h 1079640"/>
                <a:gd name="textAreaBottom" fmla="*/ 104652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9"/>
                    <a:pt x="10800" y="2137"/>
                  </a:cubicBezTo>
                  <a:lnTo>
                    <a:pt x="10800" y="8663"/>
                  </a:lnTo>
                  <a:cubicBezTo>
                    <a:pt x="10800" y="9732"/>
                    <a:pt x="5400" y="10800"/>
                    <a:pt x="0" y="10800"/>
                  </a:cubicBezTo>
                  <a:cubicBezTo>
                    <a:pt x="5400" y="10800"/>
                    <a:pt x="10800" y="11869"/>
                    <a:pt x="10800" y="12937"/>
                  </a:cubicBezTo>
                  <a:lnTo>
                    <a:pt x="10800" y="19463"/>
                  </a:lnTo>
                  <a:cubicBezTo>
                    <a:pt x="10800" y="2053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8" name="TextBox 17"/>
            <p:cNvSpPr/>
            <p:nvPr/>
          </p:nvSpPr>
          <p:spPr>
            <a:xfrm>
              <a:off x="2748240" y="4908600"/>
              <a:ext cx="791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89" name="图片 25610" descr=""/>
            <p:cNvPicPr/>
            <p:nvPr/>
          </p:nvPicPr>
          <p:blipFill>
            <a:blip r:embed="rId2"/>
            <a:stretch/>
          </p:blipFill>
          <p:spPr>
            <a:xfrm>
              <a:off x="973080" y="4581360"/>
              <a:ext cx="1620720" cy="10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0" name="组合 25611"/>
          <p:cNvGrpSpPr/>
          <p:nvPr/>
        </p:nvGrpSpPr>
        <p:grpSpPr>
          <a:xfrm>
            <a:off x="3851280" y="4111560"/>
            <a:ext cx="4260600" cy="2727360"/>
            <a:chOff x="3851280" y="4111560"/>
            <a:chExt cx="4260600" cy="2727360"/>
          </a:xfrm>
        </p:grpSpPr>
        <p:pic>
          <p:nvPicPr>
            <p:cNvPr id="1591" name="图片 25612" descr=""/>
            <p:cNvPicPr/>
            <p:nvPr/>
          </p:nvPicPr>
          <p:blipFill>
            <a:blip r:embed="rId3"/>
            <a:stretch/>
          </p:blipFill>
          <p:spPr>
            <a:xfrm>
              <a:off x="3852360" y="4111560"/>
              <a:ext cx="324504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左大括号 13"/>
            <p:cNvSpPr/>
            <p:nvPr/>
          </p:nvSpPr>
          <p:spPr>
            <a:xfrm rot="16200000">
              <a:off x="5361120" y="4839840"/>
              <a:ext cx="217440" cy="323712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64440 h 3237120"/>
                <a:gd name="textAreaBottom" fmla="*/ 3172680 h 32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90"/>
                    <a:pt x="10800" y="1379"/>
                  </a:cubicBezTo>
                  <a:lnTo>
                    <a:pt x="10800" y="9421"/>
                  </a:lnTo>
                  <a:cubicBezTo>
                    <a:pt x="10800" y="10111"/>
                    <a:pt x="5400" y="10800"/>
                    <a:pt x="0" y="10800"/>
                  </a:cubicBezTo>
                  <a:cubicBezTo>
                    <a:pt x="5400" y="10800"/>
                    <a:pt x="10800" y="11490"/>
                    <a:pt x="10800" y="12179"/>
                  </a:cubicBezTo>
                  <a:lnTo>
                    <a:pt x="10800" y="20221"/>
                  </a:lnTo>
                  <a:cubicBezTo>
                    <a:pt x="10800" y="2091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3" name="TextBox 15"/>
            <p:cNvSpPr/>
            <p:nvPr/>
          </p:nvSpPr>
          <p:spPr>
            <a:xfrm>
              <a:off x="5116320" y="6453000"/>
              <a:ext cx="7552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0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4" name="左大括号 16"/>
            <p:cNvSpPr/>
            <p:nvPr/>
          </p:nvSpPr>
          <p:spPr>
            <a:xfrm rot="10800000">
              <a:off x="7154640" y="4131720"/>
              <a:ext cx="215640" cy="21589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5" name="TextBox 17"/>
            <p:cNvSpPr/>
            <p:nvPr/>
          </p:nvSpPr>
          <p:spPr>
            <a:xfrm>
              <a:off x="7320240" y="4987800"/>
              <a:ext cx="791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0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c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597" name="图片 26626" descr=""/>
          <p:cNvPicPr/>
          <p:nvPr/>
        </p:nvPicPr>
        <p:blipFill>
          <a:blip r:embed="rId2"/>
          <a:stretch/>
        </p:blipFill>
        <p:spPr>
          <a:xfrm>
            <a:off x="343080" y="281160"/>
            <a:ext cx="8400960" cy="627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7:35Z</dcterms:modified>
  <cp:revision>3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